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4.jpeg" ContentType="image/jpeg"/>
  <Override PartName="/ppt/media/image2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608D-1469-4527-B191-86FFD9729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69C9-901E-44E4-80D7-044314C9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B9A0-CDE0-499A-825B-AC87B11B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8A07-3715-4124-9783-FDF5E2EF4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432C-E497-458D-BA82-BC821D62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7309-229D-420A-AFE0-5A23D52F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2D37-EE69-4866-8154-D5114A8C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28C2-A244-4819-9063-85904EE7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E500-5024-4A81-8202-BEABF8E9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0E32-550C-40D1-9152-49398BAE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4CF4-0999-46F4-9768-7E59B513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D563-BF88-4ADB-B6B9-EE894814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6376-BF7D-4E5A-B47C-9BF3C588F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14400" y="228600"/>
          <a:ext cx="7391520" cy="44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"/>
                    <a:ext cx="739152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600200" y="4419720"/>
            <a:ext cx="1486080" cy="1485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715000" y="4419720"/>
            <a:ext cx="1486080" cy="1485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4400" y="5867280"/>
            <a:ext cx="691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iting, waiting, waiting in li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914400" y="228600"/>
          <a:ext cx="7391520" cy="44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"/>
                    <a:ext cx="739152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600200" y="4419720"/>
            <a:ext cx="1486080" cy="1485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5715000" y="4419720"/>
            <a:ext cx="1486080" cy="1485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14400" y="5867280"/>
            <a:ext cx="691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iting, waiting, waiting in li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75%20Waiting%20in%20line%20for%20pop%20star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972880" y="5791320"/>
            <a:ext cx="21452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i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76720" y="41911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cvhslin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187440" y="5791320"/>
            <a:ext cx="21452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i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490920" y="41911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disney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56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63400" y="5791320"/>
            <a:ext cx="21452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i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567240" y="41911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914400" y="228600"/>
          <a:ext cx="7391520" cy="44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"/>
                    <a:ext cx="739152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438280" y="4419720"/>
            <a:ext cx="1486080" cy="1485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876920" y="4343400"/>
            <a:ext cx="1485720" cy="1486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057760" y="5715000"/>
            <a:ext cx="446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aiting in lin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oysrr1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648320" cy="4495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523880" y="4800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410080" y="480060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20760" y="5791320"/>
            <a:ext cx="63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iting in the bathro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ountain" descr=""/>
          <p:cNvPicPr/>
          <p:nvPr/>
        </p:nvPicPr>
        <p:blipFill>
          <a:blip r:embed="rId1"/>
          <a:stretch/>
        </p:blipFill>
        <p:spPr>
          <a:xfrm>
            <a:off x="3124080" y="609480"/>
            <a:ext cx="2994120" cy="5486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19320" y="5791320"/>
            <a:ext cx="74790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iting at the water fount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600200" y="4572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781680" y="434340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914400" y="228600"/>
          <a:ext cx="7391520" cy="44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"/>
                    <a:ext cx="739152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600200" y="4419720"/>
            <a:ext cx="1486080" cy="1485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5715000" y="4419720"/>
            <a:ext cx="1486080" cy="1485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14400" y="5867280"/>
            <a:ext cx="691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iting, waiting, waiting in li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high_school_cafeteria_line.jpg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6019920" cy="4599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20040" y="5791320"/>
            <a:ext cx="65480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iting in the  lunch li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523880" y="4267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952880" y="434340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400800" y="434340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icket%20Line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19680" y="5791320"/>
            <a:ext cx="64123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iting   for  the  ticke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523880" y="4267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943600" y="430524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914400" y="228600"/>
          <a:ext cx="7391520" cy="44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"/>
                    <a:ext cx="739152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600200" y="4419720"/>
            <a:ext cx="1486080" cy="1485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5715000" y="4419720"/>
            <a:ext cx="1486080" cy="1485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14400" y="5867280"/>
            <a:ext cx="691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iting, waiting, waiting in li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1010034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18600" y="5791320"/>
            <a:ext cx="72932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iting  at the grocery sto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523880" y="4267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334120" y="4114800"/>
            <a:ext cx="1485720" cy="1486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781680" y="411480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waiting%20in%20line" descr=""/>
          <p:cNvPicPr/>
          <p:nvPr/>
        </p:nvPicPr>
        <p:blipFill>
          <a:blip r:embed="rId1"/>
          <a:stretch/>
        </p:blipFill>
        <p:spPr>
          <a:xfrm>
            <a:off x="285840" y="210960"/>
            <a:ext cx="8572320" cy="6436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219680" y="5791320"/>
            <a:ext cx="65646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iting   rain   or    shi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523880" y="4267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581280" y="430524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6248520" y="4305240"/>
            <a:ext cx="14857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19:12:23Z</dcterms:created>
  <dc:creator>Carol Shockley</dc:creator>
  <dc:description/>
  <dc:language>en-US</dc:language>
  <cp:lastModifiedBy>Carol Shockley</cp:lastModifiedBy>
  <dcterms:modified xsi:type="dcterms:W3CDTF">2003-02-04T19:31:13Z</dcterms:modified>
  <cp:revision>4</cp:revision>
  <dc:subject/>
  <dc:title>PowerPoint Presentation</dc:title>
</cp:coreProperties>
</file>